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08721"/>
        <c:axId val="4673058"/>
      </c:barChart>
      <c:catAx>
        <c:axId val="31108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3058"/>
        <c:crosses val="autoZero"/>
        <c:auto val="1"/>
        <c:lblAlgn val="ctr"/>
        <c:lblOffset val="100"/>
        <c:noMultiLvlLbl val="0"/>
      </c:catAx>
      <c:valAx>
        <c:axId val="4673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08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56B-C9EC-41F0-880C-9D39B5A5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C59-5D75-40C2-8EF0-32ED3923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552-F34E-4EB4-8BB0-45805490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C05C-7AC7-4472-BCE6-C7B44384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450-8B01-445B-932E-6349A127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8C8-0045-4FA0-B7EA-8807C5F3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9F9-87EE-497E-AAA3-57F65674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51B-8338-4CCE-986E-ECFB5470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DA0-16EA-4735-B6F7-82961C26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98F-CAD5-41D2-BC65-E0E50439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0E2-252A-43CF-B407-F3AE5B4C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65C-84BB-479B-9710-0CF4E120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E112-C01F-4020-9935-C87292AB47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